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77000" cy="10666413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550548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5280" y="6424920"/>
            <a:ext cx="550548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240" y="308124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5280" y="642492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06240" y="642492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177264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346840" y="3081240"/>
            <a:ext cx="177264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208760" y="3081240"/>
            <a:ext cx="177264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5280" y="6424920"/>
            <a:ext cx="177264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346840" y="6424920"/>
            <a:ext cx="177264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208760" y="6424920"/>
            <a:ext cx="177264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85280" y="3081240"/>
            <a:ext cx="55054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550548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26863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06240" y="3081240"/>
            <a:ext cx="26863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85280" y="947880"/>
            <a:ext cx="550548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06240" y="3081240"/>
            <a:ext cx="26863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280" y="642492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26863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06240" y="308124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06240" y="642492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06240" y="308124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5280" y="6424920"/>
            <a:ext cx="550548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5870520" cy="5291280"/>
            <a:chOff x="0" y="0"/>
            <a:chExt cx="5870520" cy="5291280"/>
          </a:xfrm>
        </p:grpSpPr>
        <p:sp>
          <p:nvSpPr>
            <p:cNvPr id="1" name=""/>
            <p:cNvSpPr/>
            <p:nvPr/>
          </p:nvSpPr>
          <p:spPr>
            <a:xfrm>
              <a:off x="1928880" y="0"/>
              <a:ext cx="3941640" cy="3625920"/>
            </a:xfrm>
            <a:custGeom>
              <a:avLst/>
              <a:gdLst/>
              <a:ahLst/>
              <a:rect l="l" t="t" r="r" b="b"/>
              <a:pathLst>
                <a:path w="2483" h="2284">
                  <a:moveTo>
                    <a:pt x="298" y="1449"/>
                  </a:moveTo>
                  <a:lnTo>
                    <a:pt x="277" y="1507"/>
                  </a:lnTo>
                  <a:lnTo>
                    <a:pt x="255" y="1577"/>
                  </a:lnTo>
                  <a:lnTo>
                    <a:pt x="243" y="1642"/>
                  </a:lnTo>
                  <a:lnTo>
                    <a:pt x="238" y="1719"/>
                  </a:lnTo>
                  <a:lnTo>
                    <a:pt x="238" y="1796"/>
                  </a:lnTo>
                  <a:lnTo>
                    <a:pt x="247" y="1896"/>
                  </a:lnTo>
                  <a:lnTo>
                    <a:pt x="268" y="1964"/>
                  </a:lnTo>
                  <a:lnTo>
                    <a:pt x="298" y="2039"/>
                  </a:lnTo>
                  <a:lnTo>
                    <a:pt x="357" y="2158"/>
                  </a:lnTo>
                  <a:lnTo>
                    <a:pt x="413" y="2212"/>
                  </a:lnTo>
                  <a:lnTo>
                    <a:pt x="472" y="2247"/>
                  </a:lnTo>
                  <a:lnTo>
                    <a:pt x="520" y="2268"/>
                  </a:lnTo>
                  <a:lnTo>
                    <a:pt x="583" y="2279"/>
                  </a:lnTo>
                  <a:lnTo>
                    <a:pt x="651" y="2283"/>
                  </a:lnTo>
                  <a:lnTo>
                    <a:pt x="729" y="2278"/>
                  </a:lnTo>
                  <a:lnTo>
                    <a:pt x="791" y="2263"/>
                  </a:lnTo>
                  <a:lnTo>
                    <a:pt x="860" y="2232"/>
                  </a:lnTo>
                  <a:lnTo>
                    <a:pt x="927" y="2184"/>
                  </a:lnTo>
                  <a:lnTo>
                    <a:pt x="988" y="2124"/>
                  </a:lnTo>
                  <a:lnTo>
                    <a:pt x="1063" y="2023"/>
                  </a:lnTo>
                  <a:lnTo>
                    <a:pt x="1105" y="1960"/>
                  </a:lnTo>
                  <a:lnTo>
                    <a:pt x="1148" y="1896"/>
                  </a:lnTo>
                  <a:lnTo>
                    <a:pt x="1190" y="1810"/>
                  </a:lnTo>
                  <a:lnTo>
                    <a:pt x="1224" y="1737"/>
                  </a:lnTo>
                  <a:lnTo>
                    <a:pt x="1254" y="1656"/>
                  </a:lnTo>
                  <a:lnTo>
                    <a:pt x="1290" y="1577"/>
                  </a:lnTo>
                  <a:lnTo>
                    <a:pt x="1328" y="1512"/>
                  </a:lnTo>
                  <a:lnTo>
                    <a:pt x="1369" y="1452"/>
                  </a:lnTo>
                  <a:lnTo>
                    <a:pt x="1420" y="1390"/>
                  </a:lnTo>
                  <a:lnTo>
                    <a:pt x="1479" y="1339"/>
                  </a:lnTo>
                  <a:lnTo>
                    <a:pt x="1545" y="1297"/>
                  </a:lnTo>
                  <a:lnTo>
                    <a:pt x="1608" y="1262"/>
                  </a:lnTo>
                  <a:lnTo>
                    <a:pt x="1671" y="1236"/>
                  </a:lnTo>
                  <a:lnTo>
                    <a:pt x="1744" y="1215"/>
                  </a:lnTo>
                  <a:lnTo>
                    <a:pt x="1819" y="1213"/>
                  </a:lnTo>
                  <a:lnTo>
                    <a:pt x="1896" y="1211"/>
                  </a:lnTo>
                  <a:lnTo>
                    <a:pt x="2091" y="1227"/>
                  </a:lnTo>
                  <a:lnTo>
                    <a:pt x="2295" y="1275"/>
                  </a:lnTo>
                  <a:lnTo>
                    <a:pt x="2482" y="1354"/>
                  </a:lnTo>
                  <a:lnTo>
                    <a:pt x="1743" y="0"/>
                  </a:lnTo>
                  <a:lnTo>
                    <a:pt x="0" y="0"/>
                  </a:lnTo>
                  <a:lnTo>
                    <a:pt x="298" y="1449"/>
                  </a:lnTo>
                </a:path>
              </a:pathLst>
            </a:custGeom>
            <a:gradFill rotWithShape="0">
              <a:gsLst>
                <a:gs pos="0">
                  <a:srgbClr val="ededed"/>
                </a:gs>
                <a:gs pos="100000">
                  <a:srgbClr val="d4d4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252520" y="2155680"/>
              <a:ext cx="987480" cy="1224000"/>
            </a:xfrm>
            <a:custGeom>
              <a:avLst/>
              <a:gdLst/>
              <a:ahLst/>
              <a:rect l="l" t="t" r="r" b="b"/>
              <a:pathLst>
                <a:path w="622" h="771">
                  <a:moveTo>
                    <a:pt x="621" y="253"/>
                  </a:moveTo>
                  <a:lnTo>
                    <a:pt x="611" y="289"/>
                  </a:lnTo>
                  <a:lnTo>
                    <a:pt x="580" y="342"/>
                  </a:lnTo>
                  <a:lnTo>
                    <a:pt x="546" y="379"/>
                  </a:lnTo>
                  <a:lnTo>
                    <a:pt x="493" y="400"/>
                  </a:lnTo>
                  <a:lnTo>
                    <a:pt x="434" y="397"/>
                  </a:lnTo>
                  <a:lnTo>
                    <a:pt x="364" y="392"/>
                  </a:lnTo>
                  <a:lnTo>
                    <a:pt x="308" y="400"/>
                  </a:lnTo>
                  <a:lnTo>
                    <a:pt x="266" y="411"/>
                  </a:lnTo>
                  <a:lnTo>
                    <a:pt x="226" y="429"/>
                  </a:lnTo>
                  <a:lnTo>
                    <a:pt x="195" y="447"/>
                  </a:lnTo>
                  <a:lnTo>
                    <a:pt x="166" y="481"/>
                  </a:lnTo>
                  <a:lnTo>
                    <a:pt x="147" y="514"/>
                  </a:lnTo>
                  <a:lnTo>
                    <a:pt x="128" y="575"/>
                  </a:lnTo>
                  <a:lnTo>
                    <a:pt x="121" y="630"/>
                  </a:lnTo>
                  <a:lnTo>
                    <a:pt x="124" y="686"/>
                  </a:lnTo>
                  <a:lnTo>
                    <a:pt x="135" y="770"/>
                  </a:lnTo>
                  <a:lnTo>
                    <a:pt x="95" y="691"/>
                  </a:lnTo>
                  <a:lnTo>
                    <a:pt x="66" y="619"/>
                  </a:lnTo>
                  <a:lnTo>
                    <a:pt x="44" y="551"/>
                  </a:lnTo>
                  <a:lnTo>
                    <a:pt x="21" y="454"/>
                  </a:lnTo>
                  <a:lnTo>
                    <a:pt x="10" y="373"/>
                  </a:lnTo>
                  <a:lnTo>
                    <a:pt x="2" y="285"/>
                  </a:lnTo>
                  <a:lnTo>
                    <a:pt x="0" y="201"/>
                  </a:lnTo>
                  <a:lnTo>
                    <a:pt x="2" y="129"/>
                  </a:lnTo>
                  <a:lnTo>
                    <a:pt x="30" y="107"/>
                  </a:lnTo>
                  <a:lnTo>
                    <a:pt x="78" y="78"/>
                  </a:lnTo>
                  <a:lnTo>
                    <a:pt x="145" y="45"/>
                  </a:lnTo>
                  <a:lnTo>
                    <a:pt x="199" y="19"/>
                  </a:lnTo>
                  <a:lnTo>
                    <a:pt x="258" y="5"/>
                  </a:lnTo>
                  <a:lnTo>
                    <a:pt x="328" y="0"/>
                  </a:lnTo>
                  <a:lnTo>
                    <a:pt x="396" y="14"/>
                  </a:lnTo>
                  <a:lnTo>
                    <a:pt x="456" y="37"/>
                  </a:lnTo>
                  <a:lnTo>
                    <a:pt x="508" y="65"/>
                  </a:lnTo>
                  <a:lnTo>
                    <a:pt x="538" y="94"/>
                  </a:lnTo>
                  <a:lnTo>
                    <a:pt x="572" y="140"/>
                  </a:lnTo>
                  <a:lnTo>
                    <a:pt x="600" y="201"/>
                  </a:lnTo>
                  <a:lnTo>
                    <a:pt x="621" y="25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3240000" cy="5291280"/>
            </a:xfrm>
            <a:custGeom>
              <a:avLst/>
              <a:gdLst/>
              <a:ahLst/>
              <a:rect l="l" t="t" r="r" b="b"/>
              <a:pathLst>
                <a:path w="2041" h="3333">
                  <a:moveTo>
                    <a:pt x="0" y="3332"/>
                  </a:moveTo>
                  <a:lnTo>
                    <a:pt x="58" y="3160"/>
                  </a:lnTo>
                  <a:lnTo>
                    <a:pt x="129" y="2999"/>
                  </a:lnTo>
                  <a:lnTo>
                    <a:pt x="196" y="2851"/>
                  </a:lnTo>
                  <a:lnTo>
                    <a:pt x="263" y="2701"/>
                  </a:lnTo>
                  <a:lnTo>
                    <a:pt x="332" y="2571"/>
                  </a:lnTo>
                  <a:lnTo>
                    <a:pt x="404" y="2445"/>
                  </a:lnTo>
                  <a:lnTo>
                    <a:pt x="504" y="2302"/>
                  </a:lnTo>
                  <a:lnTo>
                    <a:pt x="584" y="2193"/>
                  </a:lnTo>
                  <a:lnTo>
                    <a:pt x="754" y="1998"/>
                  </a:lnTo>
                  <a:lnTo>
                    <a:pt x="923" y="1839"/>
                  </a:lnTo>
                  <a:lnTo>
                    <a:pt x="1088" y="1716"/>
                  </a:lnTo>
                  <a:lnTo>
                    <a:pt x="1245" y="1601"/>
                  </a:lnTo>
                  <a:lnTo>
                    <a:pt x="1418" y="1490"/>
                  </a:lnTo>
                  <a:lnTo>
                    <a:pt x="1486" y="1447"/>
                  </a:lnTo>
                  <a:lnTo>
                    <a:pt x="1560" y="1406"/>
                  </a:lnTo>
                  <a:lnTo>
                    <a:pt x="1622" y="1375"/>
                  </a:lnTo>
                  <a:lnTo>
                    <a:pt x="1690" y="1363"/>
                  </a:lnTo>
                  <a:lnTo>
                    <a:pt x="1749" y="1358"/>
                  </a:lnTo>
                  <a:lnTo>
                    <a:pt x="1812" y="1371"/>
                  </a:lnTo>
                  <a:lnTo>
                    <a:pt x="1866" y="1389"/>
                  </a:lnTo>
                  <a:lnTo>
                    <a:pt x="1914" y="1419"/>
                  </a:lnTo>
                  <a:lnTo>
                    <a:pt x="1962" y="1461"/>
                  </a:lnTo>
                  <a:lnTo>
                    <a:pt x="2004" y="1522"/>
                  </a:lnTo>
                  <a:lnTo>
                    <a:pt x="2040" y="1610"/>
                  </a:lnTo>
                  <a:lnTo>
                    <a:pt x="2038" y="1526"/>
                  </a:lnTo>
                  <a:lnTo>
                    <a:pt x="2032" y="1466"/>
                  </a:lnTo>
                  <a:lnTo>
                    <a:pt x="2016" y="1391"/>
                  </a:lnTo>
                  <a:lnTo>
                    <a:pt x="1996" y="1326"/>
                  </a:lnTo>
                  <a:lnTo>
                    <a:pt x="1970" y="1269"/>
                  </a:lnTo>
                  <a:lnTo>
                    <a:pt x="1943" y="1212"/>
                  </a:lnTo>
                  <a:lnTo>
                    <a:pt x="1335" y="0"/>
                  </a:lnTo>
                  <a:lnTo>
                    <a:pt x="0" y="0"/>
                  </a:lnTo>
                  <a:lnTo>
                    <a:pt x="0" y="3332"/>
                  </a:lnTo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cece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0"/>
              <a:ext cx="3112920" cy="4460760"/>
              <a:chOff x="0" y="0"/>
              <a:chExt cx="3112920" cy="446076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0"/>
                <a:ext cx="2241720" cy="1542960"/>
              </a:xfrm>
              <a:custGeom>
                <a:avLst/>
                <a:gdLst/>
                <a:ahLst/>
                <a:rect l="l" t="t" r="r" b="b"/>
                <a:pathLst>
                  <a:path w="1412" h="972">
                    <a:moveTo>
                      <a:pt x="0" y="625"/>
                    </a:moveTo>
                    <a:lnTo>
                      <a:pt x="77" y="546"/>
                    </a:lnTo>
                    <a:lnTo>
                      <a:pt x="160" y="463"/>
                    </a:lnTo>
                    <a:lnTo>
                      <a:pt x="260" y="369"/>
                    </a:lnTo>
                    <a:lnTo>
                      <a:pt x="350" y="295"/>
                    </a:lnTo>
                    <a:lnTo>
                      <a:pt x="451" y="224"/>
                    </a:lnTo>
                    <a:lnTo>
                      <a:pt x="542" y="168"/>
                    </a:lnTo>
                    <a:lnTo>
                      <a:pt x="659" y="106"/>
                    </a:lnTo>
                    <a:lnTo>
                      <a:pt x="749" y="61"/>
                    </a:lnTo>
                    <a:lnTo>
                      <a:pt x="824" y="33"/>
                    </a:lnTo>
                    <a:lnTo>
                      <a:pt x="892" y="11"/>
                    </a:lnTo>
                    <a:lnTo>
                      <a:pt x="985" y="5"/>
                    </a:lnTo>
                    <a:lnTo>
                      <a:pt x="1335" y="0"/>
                    </a:lnTo>
                    <a:lnTo>
                      <a:pt x="1411" y="149"/>
                    </a:lnTo>
                    <a:lnTo>
                      <a:pt x="1308" y="149"/>
                    </a:lnTo>
                    <a:lnTo>
                      <a:pt x="1209" y="159"/>
                    </a:lnTo>
                    <a:lnTo>
                      <a:pt x="1104" y="177"/>
                    </a:lnTo>
                    <a:lnTo>
                      <a:pt x="1018" y="201"/>
                    </a:lnTo>
                    <a:lnTo>
                      <a:pt x="923" y="237"/>
                    </a:lnTo>
                    <a:lnTo>
                      <a:pt x="841" y="271"/>
                    </a:lnTo>
                    <a:lnTo>
                      <a:pt x="755" y="314"/>
                    </a:lnTo>
                    <a:lnTo>
                      <a:pt x="678" y="361"/>
                    </a:lnTo>
                    <a:lnTo>
                      <a:pt x="627" y="392"/>
                    </a:lnTo>
                    <a:lnTo>
                      <a:pt x="518" y="457"/>
                    </a:lnTo>
                    <a:lnTo>
                      <a:pt x="397" y="541"/>
                    </a:lnTo>
                    <a:lnTo>
                      <a:pt x="287" y="635"/>
                    </a:lnTo>
                    <a:lnTo>
                      <a:pt x="162" y="756"/>
                    </a:lnTo>
                    <a:lnTo>
                      <a:pt x="93" y="831"/>
                    </a:lnTo>
                    <a:lnTo>
                      <a:pt x="39" y="905"/>
                    </a:lnTo>
                    <a:lnTo>
                      <a:pt x="0" y="971"/>
                    </a:lnTo>
                    <a:lnTo>
                      <a:pt x="0" y="6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11200"/>
                <a:ext cx="2738520" cy="2771640"/>
              </a:xfrm>
              <a:custGeom>
                <a:avLst/>
                <a:gdLst/>
                <a:ahLst/>
                <a:rect l="l" t="t" r="r" b="b"/>
                <a:pathLst>
                  <a:path w="1725" h="1746">
                    <a:moveTo>
                      <a:pt x="0" y="975"/>
                    </a:moveTo>
                    <a:lnTo>
                      <a:pt x="87" y="840"/>
                    </a:lnTo>
                    <a:lnTo>
                      <a:pt x="189" y="695"/>
                    </a:lnTo>
                    <a:lnTo>
                      <a:pt x="283" y="592"/>
                    </a:lnTo>
                    <a:lnTo>
                      <a:pt x="393" y="490"/>
                    </a:lnTo>
                    <a:lnTo>
                      <a:pt x="502" y="397"/>
                    </a:lnTo>
                    <a:lnTo>
                      <a:pt x="627" y="313"/>
                    </a:lnTo>
                    <a:lnTo>
                      <a:pt x="752" y="229"/>
                    </a:lnTo>
                    <a:lnTo>
                      <a:pt x="872" y="163"/>
                    </a:lnTo>
                    <a:lnTo>
                      <a:pt x="989" y="117"/>
                    </a:lnTo>
                    <a:lnTo>
                      <a:pt x="1099" y="70"/>
                    </a:lnTo>
                    <a:lnTo>
                      <a:pt x="1190" y="33"/>
                    </a:lnTo>
                    <a:lnTo>
                      <a:pt x="1295" y="5"/>
                    </a:lnTo>
                    <a:lnTo>
                      <a:pt x="1380" y="0"/>
                    </a:lnTo>
                    <a:lnTo>
                      <a:pt x="1459" y="1"/>
                    </a:lnTo>
                    <a:lnTo>
                      <a:pt x="1498" y="5"/>
                    </a:lnTo>
                    <a:lnTo>
                      <a:pt x="1724" y="456"/>
                    </a:lnTo>
                    <a:lnTo>
                      <a:pt x="1666" y="435"/>
                    </a:lnTo>
                    <a:lnTo>
                      <a:pt x="1594" y="425"/>
                    </a:lnTo>
                    <a:lnTo>
                      <a:pt x="1527" y="425"/>
                    </a:lnTo>
                    <a:lnTo>
                      <a:pt x="1445" y="439"/>
                    </a:lnTo>
                    <a:lnTo>
                      <a:pt x="1337" y="471"/>
                    </a:lnTo>
                    <a:lnTo>
                      <a:pt x="1269" y="496"/>
                    </a:lnTo>
                    <a:lnTo>
                      <a:pt x="1201" y="527"/>
                    </a:lnTo>
                    <a:lnTo>
                      <a:pt x="1046" y="602"/>
                    </a:lnTo>
                    <a:lnTo>
                      <a:pt x="891" y="690"/>
                    </a:lnTo>
                    <a:lnTo>
                      <a:pt x="774" y="774"/>
                    </a:lnTo>
                    <a:lnTo>
                      <a:pt x="664" y="849"/>
                    </a:lnTo>
                    <a:lnTo>
                      <a:pt x="540" y="966"/>
                    </a:lnTo>
                    <a:lnTo>
                      <a:pt x="408" y="1096"/>
                    </a:lnTo>
                    <a:lnTo>
                      <a:pt x="291" y="1236"/>
                    </a:lnTo>
                    <a:lnTo>
                      <a:pt x="211" y="1340"/>
                    </a:lnTo>
                    <a:lnTo>
                      <a:pt x="142" y="1452"/>
                    </a:lnTo>
                    <a:lnTo>
                      <a:pt x="81" y="1563"/>
                    </a:lnTo>
                    <a:lnTo>
                      <a:pt x="0" y="1745"/>
                    </a:lnTo>
                    <a:lnTo>
                      <a:pt x="0" y="97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481040"/>
                <a:ext cx="3112920" cy="2979720"/>
              </a:xfrm>
              <a:custGeom>
                <a:avLst/>
                <a:gdLst/>
                <a:ahLst/>
                <a:rect l="l" t="t" r="r" b="b"/>
                <a:pathLst>
                  <a:path w="1961" h="1877">
                    <a:moveTo>
                      <a:pt x="0" y="1503"/>
                    </a:moveTo>
                    <a:lnTo>
                      <a:pt x="45" y="1400"/>
                    </a:lnTo>
                    <a:lnTo>
                      <a:pt x="121" y="1242"/>
                    </a:lnTo>
                    <a:lnTo>
                      <a:pt x="196" y="1114"/>
                    </a:lnTo>
                    <a:lnTo>
                      <a:pt x="260" y="1009"/>
                    </a:lnTo>
                    <a:lnTo>
                      <a:pt x="306" y="934"/>
                    </a:lnTo>
                    <a:lnTo>
                      <a:pt x="359" y="863"/>
                    </a:lnTo>
                    <a:lnTo>
                      <a:pt x="419" y="784"/>
                    </a:lnTo>
                    <a:lnTo>
                      <a:pt x="514" y="681"/>
                    </a:lnTo>
                    <a:lnTo>
                      <a:pt x="619" y="569"/>
                    </a:lnTo>
                    <a:lnTo>
                      <a:pt x="748" y="457"/>
                    </a:lnTo>
                    <a:lnTo>
                      <a:pt x="872" y="355"/>
                    </a:lnTo>
                    <a:lnTo>
                      <a:pt x="986" y="280"/>
                    </a:lnTo>
                    <a:lnTo>
                      <a:pt x="1110" y="205"/>
                    </a:lnTo>
                    <a:lnTo>
                      <a:pt x="1231" y="140"/>
                    </a:lnTo>
                    <a:lnTo>
                      <a:pt x="1356" y="84"/>
                    </a:lnTo>
                    <a:lnTo>
                      <a:pt x="1480" y="42"/>
                    </a:lnTo>
                    <a:lnTo>
                      <a:pt x="1571" y="19"/>
                    </a:lnTo>
                    <a:lnTo>
                      <a:pt x="1666" y="1"/>
                    </a:lnTo>
                    <a:lnTo>
                      <a:pt x="1741" y="0"/>
                    </a:lnTo>
                    <a:lnTo>
                      <a:pt x="1809" y="10"/>
                    </a:lnTo>
                    <a:lnTo>
                      <a:pt x="1960" y="307"/>
                    </a:lnTo>
                    <a:lnTo>
                      <a:pt x="1896" y="233"/>
                    </a:lnTo>
                    <a:lnTo>
                      <a:pt x="1840" y="196"/>
                    </a:lnTo>
                    <a:lnTo>
                      <a:pt x="1781" y="183"/>
                    </a:lnTo>
                    <a:lnTo>
                      <a:pt x="1730" y="187"/>
                    </a:lnTo>
                    <a:lnTo>
                      <a:pt x="1673" y="192"/>
                    </a:lnTo>
                    <a:lnTo>
                      <a:pt x="1613" y="205"/>
                    </a:lnTo>
                    <a:lnTo>
                      <a:pt x="1540" y="229"/>
                    </a:lnTo>
                    <a:lnTo>
                      <a:pt x="1477" y="252"/>
                    </a:lnTo>
                    <a:lnTo>
                      <a:pt x="1329" y="317"/>
                    </a:lnTo>
                    <a:lnTo>
                      <a:pt x="1163" y="401"/>
                    </a:lnTo>
                    <a:lnTo>
                      <a:pt x="1046" y="476"/>
                    </a:lnTo>
                    <a:lnTo>
                      <a:pt x="929" y="560"/>
                    </a:lnTo>
                    <a:lnTo>
                      <a:pt x="793" y="672"/>
                    </a:lnTo>
                    <a:lnTo>
                      <a:pt x="665" y="793"/>
                    </a:lnTo>
                    <a:lnTo>
                      <a:pt x="533" y="933"/>
                    </a:lnTo>
                    <a:lnTo>
                      <a:pt x="466" y="1017"/>
                    </a:lnTo>
                    <a:lnTo>
                      <a:pt x="404" y="1101"/>
                    </a:lnTo>
                    <a:lnTo>
                      <a:pt x="298" y="1260"/>
                    </a:lnTo>
                    <a:lnTo>
                      <a:pt x="219" y="1409"/>
                    </a:lnTo>
                    <a:lnTo>
                      <a:pt x="144" y="1559"/>
                    </a:lnTo>
                    <a:lnTo>
                      <a:pt x="66" y="1722"/>
                    </a:lnTo>
                    <a:lnTo>
                      <a:pt x="0" y="1876"/>
                    </a:lnTo>
                    <a:lnTo>
                      <a:pt x="0" y="150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85280" y="3081240"/>
            <a:ext cx="550548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64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5229000" cy="181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066680"/>
            <a:ext cx="5229000" cy="6346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Garamond"/>
              </a:rPr>
              <a:t>ISPETTORATO LOGISTICO DELL’ ESERCIT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Garamond"/>
              </a:rPr>
              <a:t>DIPARTIMENTO AMMINISTRAZIONE E COMMISSARIAT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ff"/>
                </a:solidFill>
                <a:latin typeface="Times New Roman"/>
              </a:rPr>
              <a:t>LA GESTIONE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ff"/>
                </a:solidFill>
                <a:latin typeface="Times New Roman"/>
              </a:rPr>
              <a:t>AMMINISTRATIVO / CONTABILE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ff"/>
                </a:solidFill>
                <a:latin typeface="Times New Roman"/>
              </a:rPr>
              <a:t>DEI CONTINGENTI PROIETTATI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ff"/>
                </a:solidFill>
                <a:latin typeface="Times New Roman"/>
              </a:rPr>
              <a:t>FUORI AREA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ff"/>
                </a:solidFill>
                <a:latin typeface="Times New Roman"/>
              </a:rPr>
              <a:t>ED IN TERRITORIO METROPOLITAN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Garamond"/>
              </a:rPr>
              <a:t>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67840" indent="-166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Edizione 1998   -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855880" y="6858000"/>
          <a:ext cx="765360" cy="78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5880" y="6858000"/>
                    <a:ext cx="76536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732040" y="2133720"/>
            <a:ext cx="1011240" cy="1427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14800" y="685800"/>
            <a:ext cx="2027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ILE-NL-3120-0024-12-00B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0T10:18:02Z</dcterms:created>
  <dc:creator>Microsoft Corporation</dc:creator>
  <dc:description/>
  <dc:language>en-US</dc:language>
  <cp:lastModifiedBy>Massimo Bulfone</cp:lastModifiedBy>
  <cp:lastPrinted>1999-09-15T10:00:00Z</cp:lastPrinted>
  <dcterms:modified xsi:type="dcterms:W3CDTF">2000-11-04T18:06:38Z</dcterms:modified>
  <cp:revision>39</cp:revision>
  <dc:subject/>
  <dc:title>Nessun titolo diapositiva</dc:title>
</cp:coreProperties>
</file>